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79667"/>
        <c:axId val="92179610"/>
      </c:barChart>
      <c:catAx>
        <c:axId val="59479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79610"/>
        <c:crosses val="autoZero"/>
        <c:auto val="1"/>
        <c:lblAlgn val="ctr"/>
        <c:lblOffset val="100"/>
        <c:noMultiLvlLbl val="0"/>
      </c:catAx>
      <c:valAx>
        <c:axId val="92179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79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89C-385F-4BBF-B0D0-7BD4A087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EAF-FC06-4D3C-B779-3D1C5950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A4D-5E25-4C64-8C96-BD1A0447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954-8CF1-4F09-966F-8D9DDB2C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DCF-584B-4275-8605-DF0FFB0C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76B-4AA1-43D1-85D8-67750287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432-44C1-4AB2-9E5B-46C32690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48D-0D60-4894-B12E-363BDFA7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D02-6722-4EE0-AF98-943FF49A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146-BD23-4505-82BB-ED20DEB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090-DAEE-4CC9-BE60-496B5B34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A13-91EF-486D-8E64-4482541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CD536-4E15-4A56-AAFB-47D14F1574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