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1003"/>
        <c:axId val="17994305"/>
      </c:barChart>
      <c:catAx>
        <c:axId val="1946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94305"/>
        <c:crosses val="autoZero"/>
        <c:auto val="1"/>
        <c:lblAlgn val="ctr"/>
        <c:lblOffset val="100"/>
        <c:noMultiLvlLbl val="0"/>
      </c:catAx>
      <c:valAx>
        <c:axId val="17994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94C-4CF1-4C95-AA93-C441173E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771-23FE-4EE4-97D7-29323D6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46D-4560-4714-A1F7-5BA5E900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039-112B-4909-B63B-F2EC8F9D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AA8-8101-43B7-A011-EB21B34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E7C-448C-40B2-854E-41A989D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E85-7AA7-464D-A76E-2F78B6F4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BD1-17A6-4D9C-BB0B-406C91E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822-297C-46D2-9EEB-21F880D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A4C-740E-4400-BAF8-00C38CA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33A-30A2-4051-81DD-5FA5411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C3B-06EB-4CF1-9CFC-B6EE8DB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41A9E-1D5A-4B44-A8BA-BAE40591F6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