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81508"/>
        <c:axId val="67770731"/>
      </c:barChart>
      <c:catAx>
        <c:axId val="11281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70731"/>
        <c:crosses val="autoZero"/>
        <c:auto val="1"/>
        <c:lblAlgn val="ctr"/>
        <c:lblOffset val="100"/>
        <c:noMultiLvlLbl val="0"/>
      </c:catAx>
      <c:valAx>
        <c:axId val="67770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81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FB9-8FC0-46B6-A83E-12BE34F3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C82-9C6F-457C-BF72-526D9A91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221-37E9-4E0E-B4A8-CC80C682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545-1C87-4BAE-B208-BA8A42D1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1F8-0E65-44E1-9BE5-72FB927E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819-F627-4599-936E-966EF425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19A-1036-407C-99F1-CDC10720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339-A4D6-4D11-8577-F25CCB81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53E-659F-4472-AEAA-0D4D319F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36B-0AAC-476B-AEE6-0A4A05FC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53E-E98A-40C0-AE76-787724C4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CA3-A67B-4C22-88C7-1A127F91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6A30A-2BA6-4B23-A10B-84D153E555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