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83037"/>
        <c:axId val="28726589"/>
      </c:barChart>
      <c:catAx>
        <c:axId val="38483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26589"/>
        <c:crosses val="autoZero"/>
        <c:auto val="1"/>
        <c:lblAlgn val="ctr"/>
        <c:lblOffset val="100"/>
        <c:noMultiLvlLbl val="0"/>
      </c:catAx>
      <c:valAx>
        <c:axId val="28726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83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0DA-4F10-4ADF-A9BE-B42FF6E1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62A-EECC-458F-9365-B6D3220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932-E4F1-40E2-ACD9-BE6FD065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1BF-80A4-42D3-B2CE-9BC6B9E5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7B3-602D-43C4-B35E-69A03E08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0B0-E676-435B-8A7F-AC5F30BB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DE9-547A-4229-876A-CDBC1DDC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F95-0CFA-4359-83BA-71B3A99C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E12-055E-4A0F-AF41-14A5631B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A6A-BFFD-4D25-914D-DB670CD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4EE-36A8-42C0-AEB0-8457E1C2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6DA-61C8-4160-AB41-B0673532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AAB8E-EEE4-48E4-AA94-38A560FD3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