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00787"/>
        <c:axId val="49455211"/>
      </c:barChart>
      <c:catAx>
        <c:axId val="36800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55211"/>
        <c:crosses val="autoZero"/>
        <c:auto val="1"/>
        <c:lblAlgn val="ctr"/>
        <c:lblOffset val="100"/>
        <c:noMultiLvlLbl val="0"/>
      </c:catAx>
      <c:valAx>
        <c:axId val="49455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00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382-40E3-4FFE-879A-4C339ECC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2A5-BE57-4543-B8C4-CDF7D879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799-CA54-4FC1-95F9-CEB766C7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C2B-1491-4D85-954A-28DA0B23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FA9-5860-4D99-989E-CFCE231E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79F-C165-43E0-BD3B-A7D786BE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368-A124-4C99-9670-16E75984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812-1164-44B2-978D-3293596E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A8E-6D87-4AA7-8B07-8E229289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256-7796-4059-A606-D0F62F8C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260-8B96-4FD0-AD79-F029D01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0D2-E512-4815-8570-5AB2FFB6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26C61-BD2D-48F1-ACB3-F9BF32B861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