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26429"/>
        <c:axId val="73167788"/>
      </c:barChart>
      <c:catAx>
        <c:axId val="50926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7788"/>
        <c:crosses val="autoZero"/>
        <c:auto val="1"/>
        <c:lblAlgn val="ctr"/>
        <c:lblOffset val="100"/>
        <c:noMultiLvlLbl val="0"/>
      </c:catAx>
      <c:valAx>
        <c:axId val="7316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26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64B-01E4-4762-85B1-49103CC3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854-46EF-4AAA-BE88-4DE3BC1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724-DFF1-4273-A938-89EE4D9E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41B-15C4-4300-9217-715BD738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477-72E4-4EBE-BA1D-355BA31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030-B582-4D28-9E17-FAA5B6E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B8C-C080-43FC-925F-9962281A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EF7-48FB-4F80-A15E-937A4FA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9B5-C690-4740-A8AB-F0700E40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FBD-A9A3-4FCB-8BC0-5777FAB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19A-7C3B-4556-8EFC-75BB4F4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B8A-801E-4D7B-9421-8E69BE0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5CED6-3CD9-47BC-92B3-38F69C0E9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